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10515600" cy="73152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C036-5290-4ABD-9B91-A159E8ED5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C6AE-501E-4B15-8E60-CE14049B5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7B77-FD35-45B3-96EB-C6E399441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41DF-F708-4BB6-89DD-B30D0EE38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14AF-B19A-4D5A-A887-A8BF4C560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E2CC-B587-4E3A-AA89-5BB4632EF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2569-A54F-4E77-98B3-EA4B19281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B151-2E5C-4616-A33A-1BB41B0B3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2 (continued on the next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677E-0832-4A29-819D-576E39F7A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55B7-3A6E-4589-904B-6C85DC868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0652-213F-40BE-AB3F-2F326A513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CA8A-2F1A-4259-B005-A7A32B8FB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883F-0E11-4A25-B707-A7D00A914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7AEB-D8D1-41E1-A76B-DFE9A4EFA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F3B8-F753-4B4A-ABF9-468BE3EEC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B57D-4073-4571-8ACD-3934E09EE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24C6-F2D7-431A-AD36-BD155468D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DF07-6188-45C4-AB33-377E2F76C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702B-4E35-4740-9A2A-649FC517B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D97C-4AFD-47EE-BA83-8AD439DEA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4EE0-6A01-402B-9E47-CA7FB87B3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2CEE-399A-4984-8E4A-6D2FC041E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A1DE-F85F-4EE0-86A4-9B46AEA18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B8DE-61C9-4BCF-981B-905D63230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E5CC-141C-42E6-B9B9-BB9574813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ADD6-29CC-4AAE-A771-D7262F51D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" Target="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esources"/>
          <p:cNvPicPr/>
          <p:nvPr/>
        </p:nvPicPr>
        <p:blipFill>
          <a:blip r:embed="rId3"/>
          <a:stretch/>
        </p:blipFill>
        <p:spPr>
          <a:xfrm>
            <a:off x="4384800" y="6765840"/>
            <a:ext cx="1692000" cy="487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ome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387600" y="6762600"/>
            <a:ext cx="998640" cy="493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next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previous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resources"/>
          <p:cNvPicPr/>
          <p:nvPr/>
        </p:nvPicPr>
        <p:blipFill>
          <a:blip r:embed="rId3"/>
          <a:stretch/>
        </p:blipFill>
        <p:spPr>
          <a:xfrm>
            <a:off x="4384800" y="6759720"/>
            <a:ext cx="1692000" cy="4870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revious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Vocab Folder"/>
          <p:cNvPicPr/>
          <p:nvPr/>
        </p:nvPicPr>
        <p:blipFill>
          <a:blip r:embed="rId6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Bio-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3382920" y="6765840"/>
            <a:ext cx="99864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exit red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9043920" y="6272280"/>
            <a:ext cx="1398600" cy="47628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4d4d4d">
                <a:alpha val="50000"/>
              </a:srgbClr>
            </a:outerShdw>
          </a:effectLst>
        </p:spPr>
      </p:pic>
      <p:sp>
        <p:nvSpPr>
          <p:cNvPr id="118" name="Text Box 3"/>
          <p:cNvSpPr/>
          <p:nvPr/>
        </p:nvSpPr>
        <p:spPr>
          <a:xfrm>
            <a:off x="2619360" y="6964200"/>
            <a:ext cx="52578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200" spc="-1" strike="noStrike">
                <a:solidFill>
                  <a:srgbClr val="ffffef"/>
                </a:solidFill>
                <a:latin typeface="Arial Unicode MS"/>
              </a:rPr>
              <a:t>Click on a lesson name to sel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file:///tmp/home/.config/libreoffice/4/user/gallery/incomplete_dominance.wa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odominance.wav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tmp/home/.config/libreoffice/4/user/gallery/multiple_alleles.wa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pistasis.wav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file:///tmp/home/.config/libreoffice/4/user/gallery/sex_chromosome.wa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tmp/home/.config/libreoffice/4/user/gallery/sex_linked_trait.wa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tmp/home/.config/libreoffice/4/user/gallery/polygenic_trait.wa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karyotype.wav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elomere.wav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nondisjunction.wav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tmp/home/.config/libreoffice/4/user/gallery/pedigree.wa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Inferring Genotyp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785880" y="2021040"/>
            <a:ext cx="8739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nowing physical traits can determine what genes an individual is most likely to h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785880" y="3214800"/>
            <a:ext cx="87390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Predicting Disor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785880" y="3925800"/>
            <a:ext cx="85867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keeping helps scientists use pedigree analysis to study inheritance patterns, determine phenotypes, and ascertain geno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Basic Patterns of Human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Incomplete 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785880" y="2017800"/>
            <a:ext cx="89676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4" descr="ch 11 im 10"/>
          <p:cNvPicPr/>
          <p:nvPr/>
        </p:nvPicPr>
        <p:blipFill>
          <a:blip r:embed="rId1"/>
          <a:stretch/>
        </p:blipFill>
        <p:spPr>
          <a:xfrm>
            <a:off x="698400" y="3917880"/>
            <a:ext cx="9144000" cy="23875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5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6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6960" y="1447920"/>
            <a:ext cx="40968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Co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785880" y="2122560"/>
            <a:ext cx="8815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oth alleles are expressed in the heterozygous condi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838080" y="3581280"/>
            <a:ext cx="88156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ckle-cell disease is one exam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2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Sickle-cell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785880" y="2021040"/>
            <a:ext cx="538632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s in hemoglobin cause red blood cells to change to a sickle shap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785880" y="3705120"/>
            <a:ext cx="53863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ople who are heterozygous for the trait have both normal and sickle-shaped c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1" descr="Ch11 Im12 normal and sickle"/>
          <p:cNvPicPr/>
          <p:nvPr/>
        </p:nvPicPr>
        <p:blipFill>
          <a:blip r:embed="rId1"/>
          <a:stretch/>
        </p:blipFill>
        <p:spPr>
          <a:xfrm>
            <a:off x="6696000" y="2108160"/>
            <a:ext cx="2957760" cy="40640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2"/>
          <p:cNvSpPr/>
          <p:nvPr/>
        </p:nvSpPr>
        <p:spPr>
          <a:xfrm>
            <a:off x="5429160" y="5467320"/>
            <a:ext cx="11430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 algn="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ickle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6620040" y="1812960"/>
            <a:ext cx="22190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 red blood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AutoShape 43"/>
          <p:cNvCxnSpPr/>
          <p:nvPr/>
        </p:nvCxnSpPr>
        <p:spPr>
          <a:xfrm>
            <a:off x="8714880" y="1990440"/>
            <a:ext cx="353160" cy="28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" name="AutoShape 44"/>
          <p:cNvCxnSpPr/>
          <p:nvPr/>
        </p:nvCxnSpPr>
        <p:spPr>
          <a:xfrm>
            <a:off x="8714880" y="1990440"/>
            <a:ext cx="505800" cy="151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1" name="AutoShape 48"/>
          <p:cNvCxnSpPr/>
          <p:nvPr/>
        </p:nvCxnSpPr>
        <p:spPr>
          <a:xfrm flipV="1">
            <a:off x="6515280" y="4390560"/>
            <a:ext cx="1505520" cy="1239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2" name="AutoShape 49"/>
          <p:cNvCxnSpPr/>
          <p:nvPr/>
        </p:nvCxnSpPr>
        <p:spPr>
          <a:xfrm flipV="1">
            <a:off x="6515280" y="3047760"/>
            <a:ext cx="1791360" cy="258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3" name="Text Box 50"/>
          <p:cNvSpPr/>
          <p:nvPr/>
        </p:nvSpPr>
        <p:spPr>
          <a:xfrm>
            <a:off x="8358120" y="6118200"/>
            <a:ext cx="13734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 algn="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766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2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367240" y="1311120"/>
            <a:ext cx="46483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Multiple 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5367240" y="2021040"/>
            <a:ext cx="45435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lood groups in hum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5878440" y="3205080"/>
            <a:ext cx="387036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BO blood groups have three forms of alle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4" descr="ch 11 im 16"/>
          <p:cNvPicPr/>
          <p:nvPr/>
        </p:nvPicPr>
        <p:blipFill>
          <a:blip r:embed="rId1"/>
          <a:stretch/>
        </p:blipFill>
        <p:spPr>
          <a:xfrm>
            <a:off x="866880" y="1128600"/>
            <a:ext cx="4133880" cy="5426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5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960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Coat Color of Rab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785880" y="2021040"/>
            <a:ext cx="8815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alleles can demonstrate a hierarchy of domin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785880" y="3214800"/>
            <a:ext cx="828180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rabbits, four alleles code for coat color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0" i="1" lang="en-US" sz="3200" spc="-1" strike="noStrike" baseline="45000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0" i="1" lang="en-US" sz="3200" spc="-1" strike="noStrike" baseline="45000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Epist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785880" y="1990800"/>
            <a:ext cx="88153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2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4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Sex Determi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785880" y="2021040"/>
            <a:ext cx="462276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Sex chromoso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 an individual’s gen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1" descr="ch 11 im 16b"/>
          <p:cNvPicPr/>
          <p:nvPr/>
        </p:nvPicPr>
        <p:blipFill>
          <a:blip r:embed="rId1"/>
          <a:stretch/>
        </p:blipFill>
        <p:spPr>
          <a:xfrm>
            <a:off x="6149880" y="1314360"/>
            <a:ext cx="3222720" cy="46180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2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3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3124080"/>
            <a:ext cx="411120" cy="3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Dosage Compens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785880" y="1962000"/>
            <a:ext cx="919620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X chromosome carries a variety of genes that are necessary for the development of both females and males.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785880" y="3579840"/>
            <a:ext cx="9273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Y chromosome mainly has genes that relate to the development of male characteristic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762120" y="4724280"/>
            <a:ext cx="927396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females, one X chromosome is inactivated in each cell.  The inactivated X chromosome is visible in stained cells as a Barr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Sex-Linked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785880" y="2016000"/>
            <a:ext cx="85104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785880" y="2735280"/>
            <a:ext cx="79009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785880" y="3433680"/>
            <a:ext cx="79009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0" descr="Vlab_100"/>
          <p:cNvPicPr/>
          <p:nvPr/>
        </p:nvPicPr>
        <p:blipFill>
          <a:blip r:embed="rId1"/>
          <a:stretch/>
        </p:blipFill>
        <p:spPr>
          <a:xfrm>
            <a:off x="3429000" y="5181480"/>
            <a:ext cx="4038480" cy="11527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7"/>
          <p:cNvSpPr/>
          <p:nvPr/>
        </p:nvSpPr>
        <p:spPr>
          <a:xfrm>
            <a:off x="5079960" y="5384880"/>
            <a:ext cx="2209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a6000d"/>
                </a:solidFill>
                <a:latin typeface="Arial"/>
              </a:rPr>
              <a:t>Sex-Linked Tra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8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0"/>
          <p:cNvSpPr/>
          <p:nvPr/>
        </p:nvSpPr>
        <p:spPr>
          <a:xfrm>
            <a:off x="1170000" y="2612880"/>
            <a:ext cx="805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just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 1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Basic Patterns of Human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1176480" y="3262320"/>
            <a:ext cx="73990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</a:t>
            </a:r>
            <a:r>
              <a:rPr b="0" lang="en-US" sz="2800" spc="-1" strike="noStrike">
                <a:solidFill>
                  <a:srgbClr val="007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2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1171440" y="3919680"/>
            <a:ext cx="80488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 3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Chromosomes and Human Here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7"/>
          <p:cNvGrpSpPr/>
          <p:nvPr/>
        </p:nvGrpSpPr>
        <p:grpSpPr>
          <a:xfrm>
            <a:off x="519120" y="593640"/>
            <a:ext cx="9448920" cy="1085400"/>
            <a:chOff x="519120" y="593640"/>
            <a:chExt cx="9448920" cy="1085400"/>
          </a:xfrm>
        </p:grpSpPr>
        <p:sp>
          <p:nvSpPr>
            <p:cNvPr id="166" name="Text Box 25"/>
            <p:cNvSpPr/>
            <p:nvPr/>
          </p:nvSpPr>
          <p:spPr>
            <a:xfrm>
              <a:off x="519120" y="593640"/>
              <a:ext cx="9448920" cy="10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160" rIns="110160" tIns="55080" bIns="55080" anchor="t">
              <a:spAutoFit/>
            </a:bodyPr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3200" spc="-1" strike="noStrike">
                  <a:solidFill>
                    <a:srgbClr val="a6000d"/>
                  </a:solidFill>
                  <a:latin typeface="Arial"/>
                </a:rPr>
                <a:t>Complex Inheritance and Human Heredi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3200" spc="-1" strike="noStrike">
                  <a:solidFill>
                    <a:srgbClr val="a6000d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>
              <a:off x="3933720" y="1092240"/>
              <a:ext cx="39006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160" rIns="110160" tIns="55080" bIns="55080" anchor="t">
              <a:spAutoFit/>
            </a:bodyPr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Polygenic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785880" y="2016000"/>
            <a:ext cx="82818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Polygenic tra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rise from *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3" descr="ch 11 im 23"/>
          <p:cNvPicPr/>
          <p:nvPr/>
        </p:nvPicPr>
        <p:blipFill>
          <a:blip r:embed="rId1"/>
          <a:stretch/>
        </p:blipFill>
        <p:spPr>
          <a:xfrm>
            <a:off x="1674720" y="3305160"/>
            <a:ext cx="7164360" cy="3203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4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08640" y="2590920"/>
            <a:ext cx="41256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Environmental Influ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785880" y="2016000"/>
            <a:ext cx="8663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vironmental factors influence an organism’s 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762120" y="320040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et and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762120" y="388620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unlight an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762120" y="449568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win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785880" y="2016000"/>
            <a:ext cx="8891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elps scientists separate genetic contributions from environmental contribu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785880" y="3214800"/>
            <a:ext cx="8663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aits that appear frequently in identical twins are at least partially controlled by hered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785880" y="4419720"/>
            <a:ext cx="8663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aits expressed differently in identical twins are strongly influenced by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2"/>
          <p:cNvSpPr/>
          <p:nvPr/>
        </p:nvSpPr>
        <p:spPr>
          <a:xfrm>
            <a:off x="781200" y="2008080"/>
            <a:ext cx="86626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Karyo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hromosomes and Human Here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Karyotyp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785880" y="3692520"/>
            <a:ext cx="8891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ages of chromosomes stained during meta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785880" y="4881600"/>
            <a:ext cx="8663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romosomes are arranged in decreasing size to produce a micrograp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5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30481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Telom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785880" y="2023920"/>
            <a:ext cx="8739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elomere caps consist of DNA associated with protei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785880" y="321948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hromosomes and Human Here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2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590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Nondisj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785880" y="2009880"/>
            <a:ext cx="82058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ell division during which sister chromatids fail to separate proper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785880" y="3206880"/>
            <a:ext cx="82818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wn syndrome, also called trisomy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hromosomes and Human Here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7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6160" y="1447920"/>
            <a:ext cx="41256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conceptsinmotion"/>
          <p:cNvPicPr/>
          <p:nvPr/>
        </p:nvPicPr>
        <p:blipFill>
          <a:blip r:embed="rId1"/>
          <a:stretch/>
        </p:blipFill>
        <p:spPr>
          <a:xfrm>
            <a:off x="7513560" y="522360"/>
            <a:ext cx="2425680" cy="3808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1600200" y="32004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Table 11.2 Recessive Genetic Disorders in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Cystic Fibr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85880" y="2021040"/>
            <a:ext cx="84344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ffects the mucus-producing glands, digestive enzymes, and sweat gl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85880" y="3208320"/>
            <a:ext cx="812808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loride ions are not absorbed into the cells of a person with cystic fibrosis but are excreted in the swe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785880" y="4884840"/>
            <a:ext cx="81280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thout sufficient chloride ions in the cells, a thick mucus is secre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Basic Patterns of Human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Albi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785880" y="2021040"/>
            <a:ext cx="873900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used by altered genes, resulting in the absence of the skin pigment melanin in hair and ey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90560" y="3708360"/>
            <a:ext cx="81961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ite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795240" y="4408560"/>
            <a:ext cx="81964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ery pale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795240" y="5111640"/>
            <a:ext cx="81964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ink pup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Basic Patterns of Human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ay-Sachs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785880" y="2021040"/>
            <a:ext cx="873900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used by the absence of the enzymes responsible for breaking down fatty acids called ganglios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785880" y="3697200"/>
            <a:ext cx="851040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angliosides accumulate in the brain, inflating brain nerve cells and causing mental deterio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Basic Patterns of Human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Galactosem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85880" y="2021040"/>
            <a:ext cx="8739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essive genetic disorder characterized by the inability of the body to digest galact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Basic Patterns of Human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Dominant Genetic Disor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785880" y="2021040"/>
            <a:ext cx="8739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untington’s disease affects the nervous syst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785880" y="3205080"/>
            <a:ext cx="873900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hondroplasia is a genetic condition that causes small body size and limbs that are comparatively sh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Basic Patterns of Human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Pedi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785880" y="1949400"/>
            <a:ext cx="87390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ch 11 im 8"/>
          <p:cNvPicPr/>
          <p:nvPr/>
        </p:nvPicPr>
        <p:blipFill>
          <a:blip r:embed="rId1"/>
          <a:stretch/>
        </p:blipFill>
        <p:spPr>
          <a:xfrm>
            <a:off x="628560" y="3152880"/>
            <a:ext cx="9298080" cy="34099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Basic Patterns of Human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1447920"/>
            <a:ext cx="412560" cy="35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1:33:37Z</dcterms:created>
  <dc:creator>Glencoe/McGraw-Hill</dc:creator>
  <dc:description/>
  <dc:language>en-US</dc:language>
  <cp:lastModifiedBy>trocksund</cp:lastModifiedBy>
  <dcterms:modified xsi:type="dcterms:W3CDTF">2014-04-10T19:37:18Z</dcterms:modified>
  <cp:revision>613</cp:revision>
  <dc:subject/>
  <dc:title>Glencoe Biology</dc:title>
</cp:coreProperties>
</file>